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A222-7A8E-4A44-B682-4E334784E6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Театрализованная деятельность в детском са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хорошая возможность раскрытия творческого потенциала ребенка, воспитания творческой направленности личности. Дети учатся замечать в окружающем мире интересные идеи, воплощать их, создавать свой художественный образ персонаж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них развивается творческое воображение, ассоциативное мышление, речь, умение видеть необычные моменты в обыденн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атрализованная деятельность помогает ребенку преодолеть робость, неуверенность в себе, застенчив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ким образом, театр помогает ребенку развиваться всесторон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4DA8-B80C-48D4-800E-26DDFFE0B7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витие артистических способностей детей через театральную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62D8-BC74-4DF2-9ED9-15C7930C52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8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D27F-9B44-428B-8D4D-8882BB80CD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Значение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театрализованной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тских образовательных учреждениях можно и нужно уделять, всем видам детского театра, потому что они помог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формировать правильную модель поведения в современном мир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высить общую культуру ребенка, приобщать к духовным ценност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накомить его с детской литературой, музыкой, изобразительным искусством, правилами этикета, обрядами, традициями, привить устойчивый интер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ет элементарные представления о видах теат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вершенствовать навык воплощать в игре определенные переживания, побуждать к созданию новых образов, побуждать к мышле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особствуют развитию игрового поведения, эстетического чувства, способности творчески относиться к любому делу, умение общаться со сверстниками и взрослыми, развитию сценического творчества , музыкальных и артистических способностей де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вивает навыки публичного выступления и творческого содруж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0A86-F14C-429B-BDF3-2160FDB992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Разностороннее развитие  детей дошкольного возраста в театрализованной       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0F18-6134-45B0-8738-EA99272E87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ru-RU" sz="3800" spc="-1" strike="noStrike">
                <a:solidFill>
                  <a:srgbClr val="0000ff"/>
                </a:solidFill>
                <a:latin typeface="Calibri"/>
              </a:rPr>
              <a:t>Основные направления </a:t>
            </a:r>
            <a:br>
              <a:rPr sz="3800"/>
            </a:br>
            <a:r>
              <a:rPr b="1" lang="ru-RU" sz="3800" spc="-1" strike="noStrike">
                <a:solidFill>
                  <a:srgbClr val="0000ff"/>
                </a:solidFill>
                <a:latin typeface="Calibri"/>
              </a:rPr>
              <a:t>работы с детьми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Театральная иг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376092"/>
                </a:solidFill>
                <a:latin typeface="Calibri"/>
              </a:rPr>
              <a:t>      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Задачи: Учить детей ориентироваться в пространстве, равномерно размещаться по площадке, строить диалог с партнёром на заданную тему. Развивать способность произвольно напрягать и расслаблять отдельные группы мышц, запоминать слова героев спектаклей, развивать зрительное слуховое внимание, память, наблюдательность, образное мышление, фантазию, воображение, интерес к сценическому искусству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Ритмопласт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376092"/>
                </a:solidFill>
                <a:latin typeface="Calibri"/>
              </a:rPr>
              <a:t>     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Задачи: Развивать умение произвольно реагировать на команду или музыкальный сигнал, готовность действовать согласовано, развивать координацию движения, учить запоминать заданные позы и образно передавать их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Культура и техника реч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76092"/>
                </a:solidFill>
                <a:latin typeface="Calibri"/>
              </a:rPr>
              <a:t>     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Задачи: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Развивать речевое дыхание и правильною артикуляцию, чёткую дикцию, разнообразную интонацию логику речи; учить сочинять небольшие рассказы и сказки, подбирать простейшие рифмы; произносить скороговорки и стихи, пополнять словарный запас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Основы театральной культур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76092"/>
                </a:solidFill>
                <a:latin typeface="Calibri"/>
              </a:rPr>
              <a:t>      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Задачи: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Познакомить детей с театральной терминологией, с основными видами театрального искусства, воспитывать культуру поведения в театре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Работа над спектакл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76092"/>
                </a:solidFill>
                <a:latin typeface="Calibri"/>
              </a:rPr>
              <a:t>      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Задачи: Учить сочинять этюды по сказкам; развивать навыки действий с воображаемыми предметами; развивать умение пользоваться интонациями, выражающими разнообразные эмоциональные состояния (грустно, радостно, сердито, удивленно, восхищённо, жалобно и т.д.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EF1E-6262-478A-80A2-13284BADE4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Формы организации театрализованной дея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376092"/>
                </a:solidFill>
                <a:latin typeface="Calibri"/>
              </a:rPr>
              <a:t>     </a:t>
            </a:r>
            <a:r>
              <a:rPr b="0" lang="ru-RU" sz="1000" spc="-1" strike="noStrike">
                <a:solidFill>
                  <a:srgbClr val="0000ff"/>
                </a:solidFill>
                <a:latin typeface="Calibri"/>
              </a:rPr>
              <a:t>Выбирая материал для инсценировки, нужно отталкиваться от возрастных возможностей, знаний и умений детей, обогащать их жизненный опыт, побуждать интерес к новым знаниям, расширять творческий потенциал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вместная театрализованная деятельность взрослых и детей, театральное занятие, театрализованная игра на праздниках и развлеч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мостоятельная театрально-художественная деятельность, театрализованные игра в повседневно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ини-игры на других занятиях, театрализованные игры-спектакли, посещение детьми театров совместно с родителями, мини-сценки с куклами в ходе изучения регионального компонента с детьми, привлечение главной куклы - Петрушки в решение познавательных 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6F04-4E66-478E-B4D6-3ABCDE007F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Формы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атральные иг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чевые иг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итмопла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сценировка песен, попевок, хоров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пользование различных видов теат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аматизация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ещение теат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заимодействие с родител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986D-B55C-4AAC-A8D3-6A8F0A5DBB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иды театра в детском саду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ибаб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стольный теа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атр на фланелеграф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нижка-теа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атр пяти пальце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атр мас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атр ручных те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льчиковый теневой театр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атр «живых» теней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гнитный теат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рионеточный теа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89A5-1436-4A66-81EE-3AEF9846CA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Организация уголка театрализованной деятельности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группах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тского сада организованы уголки для  театрализованных представлений, спектаклей. В них отводится место для режиссёрских игр с пальчиковым, настольным театр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В уголке располагаютс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различные виды театров: бибабо, настольный, театр на фланелеграфе и др.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реквизит для разыгрывания сценок и спектаклей: набор кукол, ширмы для кукольного театра, костюмы, элементы костюмов, маск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атрибуты для различных игровых позиций: театральный реквизит,  декорации, сценарии, книги, образцы музыкальных произведений, афиши, касса, билеты, карандаши, краски, клей, виды бумаги, природный материа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83AB-2081-49A9-9D18-769D38BD7C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дель:развитие творческой активности дошкольников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программа Н.Ф.Сорокиной и Л.Г.Миланович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Театр – творчество – дети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Схема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9A7E-7C17-49D2-AF67-BA3D12E63D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74EE-8819-444A-A3F9-A4B8371C9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BC35-6E2B-42D8-9FD0-5D7A7926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75BA-DA7A-47BF-9221-4F7BEF50D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6DEC-C2B8-40DE-B67F-1B50B0A9F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9BBF-6931-4295-A28B-E379D728C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45C1-EABE-4FCA-B5CE-966B5F88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1385-A34C-4ED0-8213-2408153F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737B-CD77-4EF0-9AF2-A0FA1831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C5CE-FE1C-4134-9821-2C664A80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14DE-CA5F-4FFF-A3BD-407BC4B4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2176-EFD0-4FF2-8963-96D4A3E7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B14E-BE4C-4CBD-8672-15C14D02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C5B5-B9BF-4AFB-8E51-D11F14B5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FA9A-89A5-4961-921A-B0D4FE59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974D1-9B47-44AB-BB0A-05836F66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430F1-23CB-41D4-83B7-F3296F3A8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2902-E89C-4952-AB01-AC19E096C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2D55-25BC-47E2-80CE-89EBB41B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B8BA-1FE3-4E7A-BECD-4815227C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E240-7160-43A6-920B-DD38C8D6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7A9B-7439-46FF-A47F-5CB99451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EE37-29BB-4AFE-AF3A-0102817C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5594-0F8E-403F-AF43-357A4A6A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3568-69AB-4302-BDAB-2077C5C3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9A27-0CA6-45AC-984A-BF0B7B2F546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0664-1CB5-4B45-AAF3-1ED200C4FBD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838080" y="18172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хорошая возможность раскрытия творческого потенциала ребенка, воспитания творческой направленности личности. Дети учатся замечать в окружающем мире интересные идеи, воплощать их, создавать свой художественный образ персонаж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них развивается творческое воображение, ассоциативное мышление, речь, умение видеть необычные моменты в обыденн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атрализованная деятельность помогает ребенку преодолеть робость, неуверенность в себе, застенчив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им образом, театр помогает ребенку развиваться всесторон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33"/>
                </a:solidFill>
                <a:latin typeface="Times New Roman"/>
              </a:rPr>
              <a:t>Театрализованная деятельность в детском саду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7598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Развитие артистических способностей детей через театральную деятельность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152280" y="6248520"/>
            <a:ext cx="8686800" cy="380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иагностика развития артистических способностей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0"/>
          <p:cNvSpPr/>
          <p:nvPr/>
        </p:nvSpPr>
        <p:spPr>
          <a:xfrm>
            <a:off x="434340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1"/>
          <p:cNvSpPr/>
          <p:nvPr/>
        </p:nvSpPr>
        <p:spPr>
          <a:xfrm>
            <a:off x="152280" y="762120"/>
            <a:ext cx="8686800" cy="10666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Последовательное знакомство детей с различными видами теат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Поэтапное освоение детьми различных видов творч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Совершенствование артистических навыков детей посредством переживания и воплощ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раза в сказк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152280" y="1905120"/>
            <a:ext cx="8686800" cy="1371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Инсценировка  песе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Театральные этю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Развлеч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.Фольклорные праздни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.Сказки, мюзиклы, водевили, театрализованные предста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5"/>
          <p:cNvSpPr/>
          <p:nvPr/>
        </p:nvSpPr>
        <p:spPr>
          <a:xfrm>
            <a:off x="152280" y="3429000"/>
            <a:ext cx="8686800" cy="838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Создание театрального коллекти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Изготовление декораций, шир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Приобретение кукол для теат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.Организация оркест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152280" y="4419720"/>
            <a:ext cx="8686800" cy="6858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Индивидуальные беседы с родителя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Консультации для воспита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Сотрудничество с городским театром кукол, с ТЮЗом, со школо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152280" y="5257800"/>
            <a:ext cx="8686800" cy="838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Работа с программой Н.Ф.Сорокиной, Л.Г.Миланович «Театр - творчество –дети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Поиск высокохудожественных музыкальных произведений для аранжир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атральных представл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Изучение русских народных иг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0"/>
          <p:cNvSpPr/>
          <p:nvPr/>
        </p:nvSpPr>
        <p:spPr>
          <a:xfrm>
            <a:off x="4419720" y="1828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1"/>
          <p:cNvSpPr/>
          <p:nvPr/>
        </p:nvSpPr>
        <p:spPr>
          <a:xfrm>
            <a:off x="4419720" y="1828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5"/>
          <p:cNvSpPr/>
          <p:nvPr/>
        </p:nvSpPr>
        <p:spPr>
          <a:xfrm>
            <a:off x="4419720" y="3276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6"/>
          <p:cNvSpPr/>
          <p:nvPr/>
        </p:nvSpPr>
        <p:spPr>
          <a:xfrm>
            <a:off x="4419720" y="4343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7"/>
          <p:cNvSpPr/>
          <p:nvPr/>
        </p:nvSpPr>
        <p:spPr>
          <a:xfrm>
            <a:off x="4495680" y="5105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9"/>
          <p:cNvSpPr/>
          <p:nvPr/>
        </p:nvSpPr>
        <p:spPr>
          <a:xfrm>
            <a:off x="4419720" y="6172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4"/>
          <p:cNvSpPr/>
          <p:nvPr/>
        </p:nvSpPr>
        <p:spPr>
          <a:xfrm>
            <a:off x="1447920" y="380880"/>
            <a:ext cx="6705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C:\Users\user\Desktop\МАМА\Эльвира\ФОТО\Рисунки\ладони.jpeg"/>
          <p:cNvPicPr/>
          <p:nvPr/>
        </p:nvPicPr>
        <p:blipFill>
          <a:blip r:embed="rId1"/>
          <a:stretch/>
        </p:blipFill>
        <p:spPr>
          <a:xfrm>
            <a:off x="3200400" y="1981080"/>
            <a:ext cx="3086280" cy="308628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Значение 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театрализованной деятельност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етских образовательных учреждениях можно и нужно уделять, всем видам детского театра, потому что они помога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формировать правильную модель поведения в современном мир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ысить общую культуру ребенка, приобщать к духовным ценностя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накомить его с детской литературой, музыкой, изобразительным искусством, правилами этикета, обрядами, традициями, привить устойчивый интере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ет элементарные представления о видах теат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вершенствовать навык воплощать в игре определенные переживания, побуждать к созданию новых образов, побуждать к мышлен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собствуют развитию игрового поведения, эстетического чувства, способности творчески относиться к любому делу, умение общаться со сверстниками и взрослыми, развитию сценического творчества , музыкальных и артистических способностей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вает навыки публичного выступления и творческого содруж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Разностороннее развитие  детей дошкольного возраста в театрализованной        деятельности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11" name="Diagram 18"/>
          <p:cNvGrpSpPr/>
          <p:nvPr/>
        </p:nvGrpSpPr>
        <p:grpSpPr>
          <a:xfrm>
            <a:off x="2295360" y="1758960"/>
            <a:ext cx="4554360" cy="4711320"/>
            <a:chOff x="2295360" y="1758960"/>
            <a:chExt cx="4554360" cy="4711320"/>
          </a:xfrm>
        </p:grpSpPr>
        <p:sp>
          <p:nvSpPr>
            <p:cNvPr id="112" name="_s1028"/>
            <p:cNvSpPr/>
            <p:nvPr/>
          </p:nvSpPr>
          <p:spPr>
            <a:xfrm flipH="1" flipV="1">
              <a:off x="3763800" y="3279240"/>
              <a:ext cx="403920" cy="41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29"/>
            <p:cNvSpPr/>
            <p:nvPr/>
          </p:nvSpPr>
          <p:spPr>
            <a:xfrm>
              <a:off x="2795040" y="2277360"/>
              <a:ext cx="1137600" cy="11768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ЛЕП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030"/>
            <p:cNvSpPr/>
            <p:nvPr/>
          </p:nvSpPr>
          <p:spPr>
            <a:xfrm flipH="1">
              <a:off x="3429360" y="4113720"/>
              <a:ext cx="5727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031"/>
            <p:cNvSpPr/>
            <p:nvPr/>
          </p:nvSpPr>
          <p:spPr>
            <a:xfrm>
              <a:off x="2295360" y="3526200"/>
              <a:ext cx="1137600" cy="11768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ФИЗИЧЕСКО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ВОСПИТАНИ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32"/>
            <p:cNvSpPr/>
            <p:nvPr/>
          </p:nvSpPr>
          <p:spPr>
            <a:xfrm flipH="1">
              <a:off x="3763440" y="4529880"/>
              <a:ext cx="405720" cy="418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033"/>
            <p:cNvSpPr/>
            <p:nvPr/>
          </p:nvSpPr>
          <p:spPr>
            <a:xfrm>
              <a:off x="2795040" y="4775040"/>
              <a:ext cx="1137600" cy="11768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ХУДОЖЕСТВЕННАЯ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ЛИТЕРАТУР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34"/>
            <p:cNvSpPr/>
            <p:nvPr/>
          </p:nvSpPr>
          <p:spPr>
            <a:xfrm>
              <a:off x="4570200" y="4700880"/>
              <a:ext cx="1440" cy="59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035"/>
            <p:cNvSpPr/>
            <p:nvPr/>
          </p:nvSpPr>
          <p:spPr>
            <a:xfrm>
              <a:off x="4002480" y="5293800"/>
              <a:ext cx="1136880" cy="117648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РИСОВА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36"/>
            <p:cNvSpPr/>
            <p:nvPr/>
          </p:nvSpPr>
          <p:spPr>
            <a:xfrm>
              <a:off x="4972680" y="4528080"/>
              <a:ext cx="403920" cy="41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037"/>
            <p:cNvSpPr/>
            <p:nvPr/>
          </p:nvSpPr>
          <p:spPr>
            <a:xfrm>
              <a:off x="5211360" y="4777200"/>
              <a:ext cx="1136880" cy="117648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КОНСТРУИРОВАНИЕ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РУЧНО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ТРУ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038"/>
            <p:cNvSpPr/>
            <p:nvPr/>
          </p:nvSpPr>
          <p:spPr>
            <a:xfrm>
              <a:off x="5137920" y="4113720"/>
              <a:ext cx="57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039"/>
            <p:cNvSpPr/>
            <p:nvPr/>
          </p:nvSpPr>
          <p:spPr>
            <a:xfrm>
              <a:off x="5712840" y="3526200"/>
              <a:ext cx="1136880" cy="11768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МУЗЫКАЛЬНО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ВОСПИТАНИ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040"/>
            <p:cNvSpPr/>
            <p:nvPr/>
          </p:nvSpPr>
          <p:spPr>
            <a:xfrm flipV="1">
              <a:off x="4970880" y="3279240"/>
              <a:ext cx="405720" cy="41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041"/>
            <p:cNvSpPr/>
            <p:nvPr/>
          </p:nvSpPr>
          <p:spPr>
            <a:xfrm>
              <a:off x="5211360" y="2275560"/>
              <a:ext cx="1136880" cy="117648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РАЗВИТИ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РЕЧ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042"/>
            <p:cNvSpPr/>
            <p:nvPr/>
          </p:nvSpPr>
          <p:spPr>
            <a:xfrm flipV="1">
              <a:off x="4570200" y="2933280"/>
              <a:ext cx="0" cy="59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43"/>
            <p:cNvSpPr/>
            <p:nvPr/>
          </p:nvSpPr>
          <p:spPr>
            <a:xfrm>
              <a:off x="4002480" y="1758960"/>
              <a:ext cx="1136880" cy="117648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РЭМП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44"/>
            <p:cNvSpPr/>
            <p:nvPr/>
          </p:nvSpPr>
          <p:spPr>
            <a:xfrm>
              <a:off x="4002480" y="3528000"/>
              <a:ext cx="1136880" cy="117648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0033"/>
                  </a:solidFill>
                  <a:latin typeface="Tahoma"/>
                </a:rPr>
                <a:t>ТЕАТРАЛИЗОВАННАЯ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0033"/>
                  </a:solidFill>
                  <a:latin typeface="Tahoma"/>
                </a:rPr>
                <a:t>ДЕЯТЕЛЬНОСТЬ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ru-RU" sz="3800" spc="-1" strike="noStrike">
                <a:solidFill>
                  <a:srgbClr val="990033"/>
                </a:solidFill>
                <a:latin typeface="Times New Roman"/>
              </a:rPr>
              <a:t>Основные направления </a:t>
            </a:r>
            <a:br>
              <a:rPr sz="3800"/>
            </a:br>
            <a:r>
              <a:rPr b="1" lang="ru-RU" sz="3800" spc="-1" strike="noStrike">
                <a:solidFill>
                  <a:srgbClr val="990033"/>
                </a:solidFill>
                <a:latin typeface="Times New Roman"/>
              </a:rPr>
              <a:t>работы с детьми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Театральная иг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376092"/>
                </a:solidFill>
                <a:latin typeface="Arial"/>
              </a:rPr>
              <a:t>     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Задачи: Учить детей ориентироваться в пространстве, равномерно размещаться по площадке, строить диалог с партнёром на заданную тему. Развивать способность произвольно напрягать и расслаблять отдельные группы мышц, запоминать слова героев спектаклей, развивать зрительное слуховое внимание, память, наблюдательность, образное мышление, фантазию, воображение, интерес к сценическому искусству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Ритмопла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376092"/>
                </a:solidFill>
                <a:latin typeface="Arial"/>
              </a:rPr>
              <a:t>    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Задачи: Развивать умение произвольно реагировать на команду или музыкальный сигнал, готовность действовать согласовано, развивать координацию движения, учить запоминать заданные позы и образно передавать их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Культура и техника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76092"/>
                </a:solidFill>
                <a:latin typeface="Arial"/>
              </a:rPr>
              <a:t>    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Задачи: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Развивать речевое дыхание и правильною артикуляцию, чёткую дикцию, разнообразную интонацию логику речи; учить сочинять небольшие рассказы и сказки, подбирать простейшие рифмы; произносить скороговорки и стихи, пополнять словарный запас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сновы театральной культу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76092"/>
                </a:solidFill>
                <a:latin typeface="Arial"/>
              </a:rPr>
              <a:t>     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Задачи: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ознакомить детей с театральной терминологией, с основными видами театрального искусства, воспитывать культуру поведения в театр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Работа над спектак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76092"/>
                </a:solidFill>
                <a:latin typeface="Arial"/>
              </a:rPr>
              <a:t>     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Задачи: Учить сочинять этюды по сказкам; развивать навыки действий с воображаемыми предметами; развивать умение пользоваться интонациями, выражающими разнообразные эмоциональные состояния (грустно, радостно, сердито, удивленно, восхищённо, жалобно и т.д.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33"/>
                </a:solidFill>
                <a:latin typeface="Arial"/>
              </a:rPr>
              <a:t>Формы организации театрализованной деятельност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0773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76092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Выбирая материал для инсценировки, нужно отталкиваться от возрастных возможностей, знаний и умений детей, обогащать их жизненный опыт, побуждать интерес к новым знаниям, расширять творческий потенциа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вместная театрализованная деятельность взрослых и детей, театральное занятие, театрализованная игра на праздниках и развлеч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остоятельная театрально-художественная деятельность, театрализованные игра в повседневной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ни-игры на других занятиях, театрализованные игры-спектакли, посещение детьми театров совместно с родителями, мини-сценки с куклами в ходе изучения регионального компонента с детьми, привлечение главной куклы - Петрушки в решение познавательных  зада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0033"/>
                </a:solidFill>
                <a:latin typeface="Times New Roman"/>
              </a:rPr>
              <a:t>Формы работ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атральные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чевые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итмопла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сценировка песен, попевок, хоров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ование различных видов теа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аматизация сказ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ещение теа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заимодействие с родит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33"/>
                </a:solidFill>
                <a:latin typeface="Arial"/>
              </a:rPr>
              <a:t>Виды театра в детском саду 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баб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тольный теа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атр на фланелеграф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нижка-теа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атр пяти пальце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атр мас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атр ручных те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льчиковый теневой театр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атр «живых» теней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гнитный теат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рионеточный теа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рганизация уголка театрализованной деятельности</a:t>
            </a:r>
            <a:br>
              <a:rPr sz="32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группах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тского сада организованы уголки для  театрализованных представлений, спектаклей. В них отводится место для режиссёрских игр с пальчиковым, настольным теат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В уголке располагаютс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азличные виды театров: бибабо, настольный, театр на фланелеграфе и др.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еквизит для разыгрывания сценок и спектаклей: набор кукол, ширмы для кукольного театра, костюмы, элементы костюмов, маск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трибуты для различных игровых позиций: театральный реквизит,  декорации, сценарии, книги, образцы музыкальных произведений, афиши, касса, билеты, карандаши, краски, клей, виды бумаги, природный материа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33"/>
                </a:solidFill>
                <a:latin typeface="Times New Roman"/>
              </a:rPr>
              <a:t>Модель:развитие творческой активности дошкольников</a:t>
            </a:r>
            <a:br>
              <a:rPr sz="1800"/>
            </a:br>
            <a:r>
              <a:rPr b="1" lang="ru-RU" sz="1800" spc="-1" strike="noStrike">
                <a:solidFill>
                  <a:srgbClr val="330033"/>
                </a:solidFill>
                <a:latin typeface="Times New Roman"/>
              </a:rPr>
              <a:t>(программа Н.Ф.Сорокиной и Л.Г.Миланович </a:t>
            </a:r>
            <a:br>
              <a:rPr sz="1800"/>
            </a:br>
            <a:r>
              <a:rPr b="1" lang="ru-RU" sz="1800" spc="-1" strike="noStrike">
                <a:solidFill>
                  <a:srgbClr val="330033"/>
                </a:solidFill>
                <a:latin typeface="Times New Roman"/>
              </a:rPr>
              <a:t>«Театр – творчество – дети»)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AutoShape 25"/>
          <p:cNvSpPr/>
          <p:nvPr/>
        </p:nvSpPr>
        <p:spPr>
          <a:xfrm>
            <a:off x="152280" y="1219320"/>
            <a:ext cx="1752840" cy="4572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мпровиз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733920" y="990720"/>
            <a:ext cx="167616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хем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7"/>
          <p:cNvSpPr/>
          <p:nvPr/>
        </p:nvSpPr>
        <p:spPr>
          <a:xfrm>
            <a:off x="152280" y="1828800"/>
            <a:ext cx="1752840" cy="83808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ль костюмов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кораци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мет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кру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28"/>
          <p:cNvSpPr/>
          <p:nvPr/>
        </p:nvSpPr>
        <p:spPr>
          <a:xfrm>
            <a:off x="152280" y="2743200"/>
            <a:ext cx="1752840" cy="6858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ис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разите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ед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9"/>
          <p:cNvSpPr/>
          <p:nvPr/>
        </p:nvSpPr>
        <p:spPr>
          <a:xfrm>
            <a:off x="152280" y="3809880"/>
            <a:ext cx="1752840" cy="5335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гр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ви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0"/>
          <p:cNvSpPr/>
          <p:nvPr/>
        </p:nvSpPr>
        <p:spPr>
          <a:xfrm>
            <a:off x="152280" y="44956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бота н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торикой ру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ее дви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ширм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1"/>
          <p:cNvSpPr/>
          <p:nvPr/>
        </p:nvSpPr>
        <p:spPr>
          <a:xfrm>
            <a:off x="228600" y="5715000"/>
            <a:ext cx="1676520" cy="6858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тонаци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арактер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к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2"/>
          <p:cNvSpPr/>
          <p:nvPr/>
        </p:nvSpPr>
        <p:spPr>
          <a:xfrm>
            <a:off x="2438280" y="1600200"/>
            <a:ext cx="1752840" cy="11430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накомств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 основ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рамат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33"/>
          <p:cNvSpPr/>
          <p:nvPr/>
        </p:nvSpPr>
        <p:spPr>
          <a:xfrm>
            <a:off x="2438280" y="434340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наком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 основ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кольного теат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куклово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34"/>
          <p:cNvSpPr/>
          <p:nvPr/>
        </p:nvSpPr>
        <p:spPr>
          <a:xfrm>
            <a:off x="3886200" y="3200400"/>
            <a:ext cx="1447920" cy="60948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БЕ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35"/>
          <p:cNvSpPr/>
          <p:nvPr/>
        </p:nvSpPr>
        <p:spPr>
          <a:xfrm>
            <a:off x="5105520" y="1600200"/>
            <a:ext cx="1600200" cy="11430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накомств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 основ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ктерск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стер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36"/>
          <p:cNvSpPr/>
          <p:nvPr/>
        </p:nvSpPr>
        <p:spPr>
          <a:xfrm>
            <a:off x="5257800" y="4343400"/>
            <a:ext cx="1676520" cy="12193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амостояте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атрализован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37"/>
          <p:cNvSpPr/>
          <p:nvPr/>
        </p:nvSpPr>
        <p:spPr>
          <a:xfrm>
            <a:off x="3809880" y="5867280"/>
            <a:ext cx="1752840" cy="8384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аздник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вле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38"/>
          <p:cNvSpPr/>
          <p:nvPr/>
        </p:nvSpPr>
        <p:spPr>
          <a:xfrm>
            <a:off x="7315200" y="1143000"/>
            <a:ext cx="1676520" cy="4572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гровые дви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9"/>
          <p:cNvSpPr/>
          <p:nvPr/>
        </p:nvSpPr>
        <p:spPr>
          <a:xfrm>
            <a:off x="7315200" y="182880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разитель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т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0"/>
          <p:cNvSpPr/>
          <p:nvPr/>
        </p:nvSpPr>
        <p:spPr>
          <a:xfrm>
            <a:off x="7315200" y="2438280"/>
            <a:ext cx="1600200" cy="3049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им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1"/>
          <p:cNvSpPr/>
          <p:nvPr/>
        </p:nvSpPr>
        <p:spPr>
          <a:xfrm>
            <a:off x="7315200" y="2895480"/>
            <a:ext cx="1676520" cy="5335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рази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виж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2"/>
          <p:cNvSpPr/>
          <p:nvPr/>
        </p:nvSpPr>
        <p:spPr>
          <a:xfrm>
            <a:off x="7391520" y="3886200"/>
            <a:ext cx="1523880" cy="60948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станов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пектак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3"/>
          <p:cNvSpPr/>
          <p:nvPr/>
        </p:nvSpPr>
        <p:spPr>
          <a:xfrm>
            <a:off x="7391520" y="4724280"/>
            <a:ext cx="1523880" cy="5335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гры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рамат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44"/>
          <p:cNvSpPr/>
          <p:nvPr/>
        </p:nvSpPr>
        <p:spPr>
          <a:xfrm>
            <a:off x="7391520" y="5486400"/>
            <a:ext cx="1600200" cy="5335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ссказыв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каз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6"/>
          <p:cNvSpPr/>
          <p:nvPr/>
        </p:nvSpPr>
        <p:spPr>
          <a:xfrm flipV="1">
            <a:off x="4876920" y="27432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8"/>
          <p:cNvSpPr/>
          <p:nvPr/>
        </p:nvSpPr>
        <p:spPr>
          <a:xfrm flipH="1" flipV="1">
            <a:off x="3352680" y="2743200"/>
            <a:ext cx="10670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9"/>
          <p:cNvSpPr/>
          <p:nvPr/>
        </p:nvSpPr>
        <p:spPr>
          <a:xfrm flipH="1">
            <a:off x="3429000" y="380988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50"/>
          <p:cNvSpPr/>
          <p:nvPr/>
        </p:nvSpPr>
        <p:spPr>
          <a:xfrm>
            <a:off x="4876920" y="38098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51"/>
          <p:cNvSpPr/>
          <p:nvPr/>
        </p:nvSpPr>
        <p:spPr>
          <a:xfrm>
            <a:off x="4648320" y="38098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2"/>
          <p:cNvSpPr/>
          <p:nvPr/>
        </p:nvSpPr>
        <p:spPr>
          <a:xfrm flipH="1" flipV="1">
            <a:off x="1904760" y="1447560"/>
            <a:ext cx="5331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53"/>
          <p:cNvSpPr/>
          <p:nvPr/>
        </p:nvSpPr>
        <p:spPr>
          <a:xfrm flipH="1">
            <a:off x="1904760" y="2209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54"/>
          <p:cNvSpPr/>
          <p:nvPr/>
        </p:nvSpPr>
        <p:spPr>
          <a:xfrm flipH="1">
            <a:off x="1828440" y="228600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55"/>
          <p:cNvSpPr/>
          <p:nvPr/>
        </p:nvSpPr>
        <p:spPr>
          <a:xfrm flipH="1" flipV="1">
            <a:off x="1904760" y="4114440"/>
            <a:ext cx="5331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56"/>
          <p:cNvSpPr/>
          <p:nvPr/>
        </p:nvSpPr>
        <p:spPr>
          <a:xfrm flipH="1">
            <a:off x="1904760" y="4876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7"/>
          <p:cNvSpPr/>
          <p:nvPr/>
        </p:nvSpPr>
        <p:spPr>
          <a:xfrm flipH="1">
            <a:off x="1904760" y="4876920"/>
            <a:ext cx="533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58"/>
          <p:cNvSpPr/>
          <p:nvPr/>
        </p:nvSpPr>
        <p:spPr>
          <a:xfrm flipV="1">
            <a:off x="6705720" y="137124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9"/>
          <p:cNvSpPr/>
          <p:nvPr/>
        </p:nvSpPr>
        <p:spPr>
          <a:xfrm>
            <a:off x="6705720" y="1981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60"/>
          <p:cNvSpPr/>
          <p:nvPr/>
        </p:nvSpPr>
        <p:spPr>
          <a:xfrm>
            <a:off x="6705720" y="1981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61"/>
          <p:cNvSpPr/>
          <p:nvPr/>
        </p:nvSpPr>
        <p:spPr>
          <a:xfrm>
            <a:off x="6705720" y="1981080"/>
            <a:ext cx="6094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62"/>
          <p:cNvSpPr/>
          <p:nvPr/>
        </p:nvSpPr>
        <p:spPr>
          <a:xfrm flipV="1">
            <a:off x="6934320" y="42670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63"/>
          <p:cNvSpPr/>
          <p:nvPr/>
        </p:nvSpPr>
        <p:spPr>
          <a:xfrm>
            <a:off x="6934320" y="4876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64"/>
          <p:cNvSpPr/>
          <p:nvPr/>
        </p:nvSpPr>
        <p:spPr>
          <a:xfrm>
            <a:off x="6934320" y="49528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7:11:15Z</dcterms:created>
  <dc:creator>USER</dc:creator>
  <dc:description/>
  <dc:language>en-US</dc:language>
  <cp:lastModifiedBy>LEGION</cp:lastModifiedBy>
  <dcterms:modified xsi:type="dcterms:W3CDTF">2015-01-27T13:38:36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